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3D0F-927E-4966-9FFD-686DEFAA3777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7409-F07E-457E-9309-71922C3AD0D4}" type="slidenum">
              <a:rPr b="0" lang="fi-FI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B494-9928-49E1-B96B-C114EFBE00BB}" type="slidenum">
              <a:rPr b="0" lang="fi-FI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B3C6-A61E-43E4-B48B-CC1FDAAF2EB7}" type="slidenum">
              <a:rPr b="0" lang="fi-FI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B3C9-64A2-4085-9088-65D87422DF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6430-035A-4CB9-9890-8EEE6E4CA25A}" type="slidenum">
              <a:rPr b="0" lang="fi-FI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CCFD-B6F5-47DA-8BCC-246ABDF49E95}" type="slidenum">
              <a:rPr b="0" lang="fi-FI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87F0-7A63-42AB-9FE4-2ED8B8ACF8B6}" type="slidenum">
              <a:rPr b="0" lang="fi-FI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30E6-047F-4865-A7BC-53C3539A8194}" type="slidenum">
              <a:rPr b="0" lang="fi-FI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0B6-BD8E-4280-B46C-E047D6AD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A92-4EBF-4636-8518-B073FC89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CEF-03AB-4BB7-9333-089D8402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9DD-1B45-46A7-81CD-C8CF7B13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F2B7-3F23-4F0B-81E6-86A51FDA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2CD8-E8E2-488A-AD68-2807D44D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13E8-4E1E-41BF-8AC4-FFB00EAD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9975-602F-404A-B646-FAE79930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6E8D-A686-4BC9-A7FA-2544B38E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28A5-D029-4150-BD01-6BF696C5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B21D-2397-4E76-8896-D0F7C716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D45-4C96-412C-8604-B974930D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1D6E-EA8C-4CEC-BF24-1D10E783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73BA-72D1-467E-8107-530E671C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6296-D037-41D9-9BB3-F2A6775A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564A-508C-48C3-84D1-9A6E4EFE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72A2-A047-45F6-B7BE-AF0BB0C4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718-C793-42F6-BE4A-847A16E3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666-3588-4BC1-93FA-49F662CA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0C4-9B4F-41A0-9CDE-B14DDFB8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137-5EC7-48BB-9A36-DFB46CAF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E2C-ADFE-49CA-BED5-E4247253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8E3-15A3-4A5B-ABAF-8D934DDF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856-4B3C-4388-BA89-996B8A8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A4BF-9F84-462B-BEE9-E15E89333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3FD8-684E-4FEF-893B-2ABAE45A05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5400" spc="-1" strike="noStrike">
                <a:solidFill>
                  <a:srgbClr val="dbbd71"/>
                </a:solidFill>
                <a:latin typeface="Arial"/>
              </a:rPr>
              <a:t>Tilavuu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kstikehys 1"/>
          <p:cNvSpPr/>
          <p:nvPr/>
        </p:nvSpPr>
        <p:spPr>
          <a:xfrm>
            <a:off x="1637280" y="1571760"/>
            <a:ext cx="330948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Muistathan nämä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1  ml =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kstikehys 2"/>
          <p:cNvSpPr/>
          <p:nvPr/>
        </p:nvSpPr>
        <p:spPr>
          <a:xfrm>
            <a:off x="1825920" y="3571920"/>
            <a:ext cx="392400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1 dm</a:t>
            </a:r>
            <a:r>
              <a:rPr b="0" lang="fi-FI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 = 1000 cm </a:t>
            </a:r>
            <a:r>
              <a:rPr b="0" lang="fi-FI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1 kg = 1000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6"/>
          <p:cNvGrpSpPr/>
          <p:nvPr/>
        </p:nvGrpSpPr>
        <p:grpSpPr>
          <a:xfrm>
            <a:off x="928800" y="1714320"/>
            <a:ext cx="4392360" cy="2808360"/>
            <a:chOff x="928800" y="1714320"/>
            <a:chExt cx="4392360" cy="2808360"/>
          </a:xfrm>
        </p:grpSpPr>
        <p:sp>
          <p:nvSpPr>
            <p:cNvPr id="163" name="Line 4"/>
            <p:cNvSpPr/>
            <p:nvPr/>
          </p:nvSpPr>
          <p:spPr>
            <a:xfrm>
              <a:off x="928800" y="2435040"/>
              <a:ext cx="309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Line 5"/>
            <p:cNvSpPr/>
            <p:nvPr/>
          </p:nvSpPr>
          <p:spPr>
            <a:xfrm>
              <a:off x="928800" y="2435040"/>
              <a:ext cx="0" cy="20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Line 6"/>
            <p:cNvSpPr/>
            <p:nvPr/>
          </p:nvSpPr>
          <p:spPr>
            <a:xfrm>
              <a:off x="928800" y="4522680"/>
              <a:ext cx="309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Line 7"/>
            <p:cNvSpPr/>
            <p:nvPr/>
          </p:nvSpPr>
          <p:spPr>
            <a:xfrm>
              <a:off x="4024080" y="2435040"/>
              <a:ext cx="0" cy="20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Line 8"/>
            <p:cNvSpPr/>
            <p:nvPr/>
          </p:nvSpPr>
          <p:spPr>
            <a:xfrm flipV="1">
              <a:off x="928800" y="1714320"/>
              <a:ext cx="1295280" cy="72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V="1">
              <a:off x="4024080" y="3801600"/>
              <a:ext cx="1295280" cy="72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10"/>
            <p:cNvSpPr/>
            <p:nvPr/>
          </p:nvSpPr>
          <p:spPr>
            <a:xfrm flipV="1">
              <a:off x="4024080" y="1714320"/>
              <a:ext cx="1295280" cy="72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11"/>
            <p:cNvSpPr/>
            <p:nvPr/>
          </p:nvSpPr>
          <p:spPr>
            <a:xfrm flipV="1">
              <a:off x="928800" y="3801600"/>
              <a:ext cx="1295280" cy="72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>
              <a:off x="5321160" y="1714680"/>
              <a:ext cx="0" cy="20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2224080" y="1714680"/>
              <a:ext cx="0" cy="20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Line 14"/>
            <p:cNvSpPr/>
            <p:nvPr/>
          </p:nvSpPr>
          <p:spPr>
            <a:xfrm>
              <a:off x="2224080" y="1714680"/>
              <a:ext cx="309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Line 15"/>
            <p:cNvSpPr/>
            <p:nvPr/>
          </p:nvSpPr>
          <p:spPr>
            <a:xfrm>
              <a:off x="2224080" y="3801960"/>
              <a:ext cx="309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5" name="Tekstikehys 15"/>
          <p:cNvSpPr/>
          <p:nvPr/>
        </p:nvSpPr>
        <p:spPr>
          <a:xfrm>
            <a:off x="1156320" y="428760"/>
            <a:ext cx="64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850a"/>
                </a:solidFill>
                <a:latin typeface="Tahoma"/>
              </a:rPr>
              <a:t>Säännöllisen kappaleen tilavu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642960" y="2500200"/>
            <a:ext cx="0" cy="2016360"/>
          </a:xfrm>
          <a:prstGeom prst="line">
            <a:avLst/>
          </a:prstGeom>
          <a:ln w="1260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17"/>
          <p:cNvSpPr/>
          <p:nvPr/>
        </p:nvSpPr>
        <p:spPr>
          <a:xfrm>
            <a:off x="857160" y="4786200"/>
            <a:ext cx="3095640" cy="0"/>
          </a:xfrm>
          <a:prstGeom prst="line">
            <a:avLst/>
          </a:prstGeom>
          <a:ln w="1260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18"/>
          <p:cNvSpPr/>
          <p:nvPr/>
        </p:nvSpPr>
        <p:spPr>
          <a:xfrm flipV="1">
            <a:off x="714240" y="1571400"/>
            <a:ext cx="1224000" cy="647640"/>
          </a:xfrm>
          <a:prstGeom prst="line">
            <a:avLst/>
          </a:prstGeom>
          <a:ln w="1260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kstikehys 19"/>
          <p:cNvSpPr/>
          <p:nvPr/>
        </p:nvSpPr>
        <p:spPr>
          <a:xfrm>
            <a:off x="745560" y="5286240"/>
            <a:ext cx="7449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Mittaa kappaleen pituus, korkeus ja levey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ja kerro ne keskenään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ian numeron paikkamerkki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1E1C-E6E8-4DAA-B3BD-02AD1C3415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2819520" y="2362320"/>
          <a:ext cx="1245960" cy="422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362320"/>
                    <a:ext cx="124596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5"/>
          <p:cNvSpPr/>
          <p:nvPr/>
        </p:nvSpPr>
        <p:spPr>
          <a:xfrm>
            <a:off x="3200400" y="5105520"/>
            <a:ext cx="533520" cy="10666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85840" y="3571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7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appale syrjayttää tilavuutensa verran vettä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137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13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3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Object 6"/>
          <p:cNvGraphicFramePr/>
          <p:nvPr/>
        </p:nvGraphicFramePr>
        <p:xfrm>
          <a:off x="6072120" y="2500200"/>
          <a:ext cx="1246320" cy="399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2120" y="2500200"/>
                    <a:ext cx="1246320" cy="39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7"/>
          <p:cNvSpPr/>
          <p:nvPr/>
        </p:nvSpPr>
        <p:spPr>
          <a:xfrm>
            <a:off x="6429240" y="5072040"/>
            <a:ext cx="533520" cy="10908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2362320" y="510552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5562720" y="4648320"/>
            <a:ext cx="76176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357960" y="4786200"/>
            <a:ext cx="642960" cy="13766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6477120" y="5638680"/>
            <a:ext cx="380880" cy="45720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kstikehys 11"/>
          <p:cNvSpPr/>
          <p:nvPr/>
        </p:nvSpPr>
        <p:spPr>
          <a:xfrm>
            <a:off x="2571480" y="1143000"/>
            <a:ext cx="60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Kappaleen tilavuus on siis 10 ml eli 10c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Suorakulmio 12"/>
          <p:cNvSpPr/>
          <p:nvPr/>
        </p:nvSpPr>
        <p:spPr>
          <a:xfrm>
            <a:off x="8393040" y="1125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kstikehys 14"/>
          <p:cNvSpPr/>
          <p:nvPr/>
        </p:nvSpPr>
        <p:spPr>
          <a:xfrm>
            <a:off x="1283040" y="485784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25  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kstikehys 16"/>
          <p:cNvSpPr/>
          <p:nvPr/>
        </p:nvSpPr>
        <p:spPr>
          <a:xfrm>
            <a:off x="5134680" y="40006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35 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8a500"/>
                </a:solidFill>
                <a:latin typeface="Arial"/>
              </a:rPr>
              <a:t>Epäsäännöllisen kappaleen tilavuu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2012760" cy="4319640"/>
          </a:xfrm>
          <a:prstGeom prst="rect">
            <a:avLst/>
          </a:prstGeom>
          <a:ln w="0">
            <a:noFill/>
          </a:ln>
        </p:spPr>
      </p:pic>
      <p:sp>
        <p:nvSpPr>
          <p:cNvPr id="198" name="Line 5"/>
          <p:cNvSpPr/>
          <p:nvPr/>
        </p:nvSpPr>
        <p:spPr>
          <a:xfrm>
            <a:off x="2340000" y="4437000"/>
            <a:ext cx="576360" cy="0"/>
          </a:xfrm>
          <a:prstGeom prst="line">
            <a:avLst/>
          </a:prstGeom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284720" y="2349360"/>
            <a:ext cx="48592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isää vettä mittalasi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pota kappale vete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eden pinta nousee    kappaleen tilavuuden ver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Freeform 9"/>
          <p:cNvSpPr/>
          <p:nvPr/>
        </p:nvSpPr>
        <p:spPr>
          <a:xfrm rot="16864800">
            <a:off x="2254680" y="1413360"/>
            <a:ext cx="730440" cy="392040"/>
          </a:xfrm>
          <a:prstGeom prst="pie">
            <a:avLst/>
          </a:prstGeom>
          <a:solidFill>
            <a:srgbClr val="dadad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2340000" y="3429000"/>
            <a:ext cx="576360" cy="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11"/>
          <p:cNvSpPr/>
          <p:nvPr/>
        </p:nvSpPr>
        <p:spPr>
          <a:xfrm flipV="1">
            <a:off x="3132000" y="3429000"/>
            <a:ext cx="0" cy="1008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332000" y="4292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Tahoma"/>
              </a:rPr>
              <a:t>50 cm</a:t>
            </a:r>
            <a:r>
              <a:rPr b="1" lang="en-US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1360800" y="3284640"/>
            <a:ext cx="9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Tahoma"/>
              </a:rPr>
              <a:t>80 cm</a:t>
            </a:r>
            <a:r>
              <a:rPr b="1" lang="en-US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6944 L -0.00139 0.56296 E">
                                      <p:cBhvr>
                                        <p:cTn id="118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850a"/>
                </a:solidFill>
                <a:latin typeface="Arial"/>
              </a:rPr>
              <a:t>Suuren epäsäännöllisen kappaleen tilavuu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1332000" y="2781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332000" y="494172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2987640" y="3573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357336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2987640" y="328464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9"/>
          <p:cNvSpPr/>
          <p:nvPr/>
        </p:nvSpPr>
        <p:spPr>
          <a:xfrm flipV="1">
            <a:off x="2987640" y="27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05928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349236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2916360" y="580536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13"/>
          <p:cNvSpPr/>
          <p:nvPr/>
        </p:nvSpPr>
        <p:spPr>
          <a:xfrm flipV="1">
            <a:off x="291636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14"/>
          <p:cNvSpPr/>
          <p:nvPr/>
        </p:nvSpPr>
        <p:spPr>
          <a:xfrm flipH="1" flipV="1">
            <a:off x="349200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15"/>
          <p:cNvSpPr/>
          <p:nvPr/>
        </p:nvSpPr>
        <p:spPr>
          <a:xfrm>
            <a:off x="1332000" y="3573360"/>
            <a:ext cx="165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Freeform 16"/>
          <p:cNvSpPr/>
          <p:nvPr/>
        </p:nvSpPr>
        <p:spPr>
          <a:xfrm rot="16864800">
            <a:off x="1589040" y="2234520"/>
            <a:ext cx="1065240" cy="1004760"/>
          </a:xfrm>
          <a:prstGeom prst="pie">
            <a:avLst/>
          </a:prstGeom>
          <a:solidFill>
            <a:srgbClr val="dadad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2987640" y="3573360"/>
            <a:ext cx="28908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3276720" y="3860640"/>
            <a:ext cx="0" cy="1944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3059280" y="5805360"/>
            <a:ext cx="433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Line 20"/>
          <p:cNvSpPr/>
          <p:nvPr/>
        </p:nvSpPr>
        <p:spPr>
          <a:xfrm>
            <a:off x="3276720" y="3860640"/>
            <a:ext cx="0" cy="7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3851280" y="2133720"/>
            <a:ext cx="5292720" cy="46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isää vettä niin, ettei vettä        val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pota kappale vete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ittaa ulosvuotaneen veden määrä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5903 L 0.00035 0.2375 E">
                                      <p:cBhvr>
                                        <p:cTn id="217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8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222E-006 L 0.00017 -0.16806 E">
                                      <p:cBhvr>
                                        <p:cTn id="235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92360" y="214200"/>
            <a:ext cx="7005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8a500"/>
                </a:solidFill>
                <a:latin typeface="Arial"/>
              </a:rPr>
              <a:t>Nesteen tilavuu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826920" y="3141720"/>
            <a:ext cx="86544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1979640" y="4076640"/>
            <a:ext cx="28872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1746360" cy="3747960"/>
          </a:xfrm>
          <a:prstGeom prst="rect">
            <a:avLst/>
          </a:prstGeom>
          <a:ln w="0">
            <a:noFill/>
          </a:ln>
        </p:spPr>
      </p:pic>
      <p:sp>
        <p:nvSpPr>
          <p:cNvPr id="228" name="Vastakkaisista kulmista pyöristetty suorakulmio 20"/>
          <p:cNvSpPr/>
          <p:nvPr/>
        </p:nvSpPr>
        <p:spPr>
          <a:xfrm>
            <a:off x="1357200" y="3857760"/>
            <a:ext cx="571680" cy="1143000"/>
          </a:xfrm>
          <a:prstGeom prst="pie">
            <a:avLst/>
          </a:prstGeom>
          <a:solidFill>
            <a:srgbClr val="6699ff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405960" y="2289240"/>
            <a:ext cx="45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Lue nesteen tilavuus asteikol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kstikehys 1"/>
          <p:cNvSpPr/>
          <p:nvPr/>
        </p:nvSpPr>
        <p:spPr>
          <a:xfrm>
            <a:off x="-200880" y="2000160"/>
            <a:ext cx="882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Laske saamasi säännöllisen kappaleen tihe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Laske saamasi epäsäännöllisen kappaleen tihey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Määritä saamasi nesteen tihey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Miten selvittäisit oman tiheytes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8" descr=""/>
          <p:cNvPicPr/>
          <p:nvPr/>
        </p:nvPicPr>
        <p:blipFill>
          <a:blip r:embed="rId1"/>
          <a:stretch/>
        </p:blipFill>
        <p:spPr>
          <a:xfrm>
            <a:off x="6872400" y="4451400"/>
            <a:ext cx="1998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0:20:28Z</dcterms:created>
  <dc:creator/>
  <dc:description/>
  <dc:language>en-US</dc:language>
  <cp:lastModifiedBy>tammiri</cp:lastModifiedBy>
  <dcterms:modified xsi:type="dcterms:W3CDTF">2010-11-10T15:57:27Z</dcterms:modified>
  <cp:revision>61</cp:revision>
  <dc:subject/>
  <dc:title>tiheys</dc:title>
</cp:coreProperties>
</file>